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5DBF-FF22-4588-B039-D94158A52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s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tive metals to release hydrogen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base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s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tive metals to release hydrogen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base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tal oxides are ba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lcium oxide) reacts with water to form slaked lime (calcium hydrox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O  +  H2O  --&gt; Ca(OH)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al oxides are ba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lcium oxide) reacts with water to form slaked lime (calcium hydr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O  +  H2O  --&gt; Ca(O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acid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l(aq)  --&gt;  H+(aq) +  Cl-(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acid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N(aq)  --&gt;  H+(aq) +  CN-(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acid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gt;  H+(aq) +  Cl-(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acid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aq)  --&gt;  H+(aq) +  CN-(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base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OH(aq)  --&gt;  Na+(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base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H3(aq)    +  H2O  --&gt;  NH4+(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base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aq)  --&gt;  Na+(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base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aq)    +  H2O  --&gt;  NH4+(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neutralization, an acid reacts with a base, forming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neutralization, an acid reacts with a base, forming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is a means of expressing the acidity or basicity of a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is a means of expressing the acidity or basicity of a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means “power” of hydr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 -lo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means “power” of hyd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 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peracidity is when the stomach secretes too much acid.  Antacids are often taken to neutralize excess acid and reduce the symptoms of hyperac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ssive use of antacids can lead to an increase in the pH of blood, a condition known as alkal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peracidity is when the stomach secretes too much acid.  Antacids are often taken to neutralize excess acid and reduce the symptoms of hyperaci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ssive use of antacids can lead to an increase in the pH of blood, a condition known as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bi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el slipp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id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bi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slipp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id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O) is produced by heating limestone (CaCO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CO3  +  heat  --&gt;  CaO  +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O) is produced by heating limestone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CO3  +  heat  --&gt;  CaO  +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monia is produced for use as fertilizer and in household cleaning products.  Production is about 11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monia is produced for use as fertilizer and in household cleaning products.  Production is about 11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Health and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ed acids and bases are corrosive to tissue and are health hazards.  They can denature proteins in living c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uman body has wonderful mechanisms for maintaining the proper pH of tissue, blood, and body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Health and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ntrated acids and bases are corrosive to tissue and are health hazards.  They can denature proteins in living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wonderful mechanisms for maintaining the proper pH of tissue, blood, and body flu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a molecular substance that ionizes in aqueous solution to form hydrogen ions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a molecular substance that ionizes in aqueous solution to form hydrogen ion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  a substance that produces hydroxide ions (OH-)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a substance that produces hydroxide ions (OH-)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utralization:  When an acid reacts with a base, the properties of each are neutralized and the products are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  --&gt;  Water +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utralization:  When an acid reacts with a base, the properties of each are neutralized and the products are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  Base  --&gt;  Water +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of the 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H+ ions do not exist in water solution.  Protons react with water to form hydronium ions.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  H2O  --&gt;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rhenius Theory does not explain the basicity of ammonia and simi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nly applies to reactions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itations of the 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 ions do not exist in water solution.  Protons react with water to form hydronium ions.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2O  --&gt;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henius Theory does not explain the basicity of ammonia and similar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applies to reactions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rønsted-Lowry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proton do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  +  H2O  --&gt;  H3O+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ase:  proton ac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H3  + H2O  --&gt; NH4+  +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ønsted-Lowry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proton do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  +  H2O  --&gt;  H3O+ +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proton accep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gt; NH4+  +  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Nonmetal oxides are acid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SO3  + H2O  --&gt;  H2SO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Nonmetal oxides are acid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3  + H2O  --&gt;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7F35B-5143-412A-9777-2306E576B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0068B-FAC1-4C2E-8412-34B6B0D10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AA908-9DDB-4901-87B7-D255DD577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16EE0-F8AA-49AD-8B7A-329B49EA0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31B47-B71A-4E73-B9B8-7B52803C6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F1711-85EB-4AF6-923B-806055783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22759-3E80-4CE0-A027-02148ADEF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25171-4892-4D74-B9B4-8AC0A322F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A7C1B-E7CD-4C50-9E0B-880A87673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E3DE-6023-46A3-8CD0-CCA351672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8FBDD-87F1-4779-89CC-22FEDE11E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185EC-62C9-4A6F-878A-5BC0520E6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A9AA-667D-494A-8E2E-39B59FA52F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aste s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rn litmus </a:t>
            </a:r>
            <a:r>
              <a:rPr b="0" lang="en-US" sz="2800" spc="-1" strike="noStrike">
                <a:solidFill>
                  <a:srgbClr val="ff0000"/>
                </a:solidFill>
                <a:latin typeface="Arial"/>
              </a:rPr>
              <a:t>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active metals to release hydrogen g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bases to form water and a salt</a:t>
            </a:r>
            <a:endParaRPr b="0" lang="en-US" sz="2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9"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Metal oxides</a:t>
            </a:r>
            <a:r>
              <a:rPr b="0" lang="en-US" sz="2800" spc="-1" strike="noStrike">
                <a:solidFill>
                  <a:srgbClr val="000000"/>
                </a:solidFill>
                <a:latin typeface="Arial"/>
              </a:rPr>
              <a:t> are bas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e (calcium oxide) reacts with water to form slaked lime (calcium hydroxi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O  +  H</a:t>
            </a:r>
            <a:r>
              <a:rPr b="0" lang="en-US" sz="2400" spc="-1" strike="noStrike" baseline="-25000">
                <a:solidFill>
                  <a:srgbClr val="000000"/>
                </a:solidFill>
                <a:latin typeface="Arial"/>
                <a:ea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Ca(OH)</a:t>
            </a:r>
            <a:r>
              <a:rPr b="0"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acid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l</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acid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N(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N</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base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OH(aq)  --&gt;</a:t>
            </a:r>
            <a:r>
              <a:rPr b="0" lang="en-US" sz="2800" spc="-1" strike="noStrike">
                <a:solidFill>
                  <a:srgbClr val="000000"/>
                </a:solidFill>
                <a:latin typeface="Arial"/>
                <a:ea typeface="Arial"/>
              </a:rPr>
              <a:t>  Na</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base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t>
            </a:r>
            <a:r>
              <a:rPr b="0" lang="en-US" sz="2800" spc="-1" strike="noStrike" baseline="-25000">
                <a:solidFill>
                  <a:srgbClr val="000000"/>
                </a:solidFill>
                <a:latin typeface="Arial"/>
              </a:rPr>
              <a:t>3</a:t>
            </a:r>
            <a:r>
              <a:rPr b="0" lang="en-US" sz="2800" spc="-1" strike="noStrike">
                <a:solidFill>
                  <a:srgbClr val="000000"/>
                </a:solidFill>
                <a:latin typeface="Arial"/>
              </a:rPr>
              <a:t>(aq)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traliz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neutralization, an acid reacts with a base, forming water and a sa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07_06-01un"/>
          <p:cNvPicPr/>
          <p:nvPr/>
        </p:nvPicPr>
        <p:blipFill>
          <a:blip r:embed="rId1"/>
          <a:stretch/>
        </p:blipFill>
        <p:spPr>
          <a:xfrm>
            <a:off x="838080" y="3352680"/>
            <a:ext cx="7239240" cy="174780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is a means of expressing the acidity or basicity of a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Picture 4" descr="07_07"/>
          <p:cNvPicPr/>
          <p:nvPr/>
        </p:nvPicPr>
        <p:blipFill>
          <a:blip r:embed="rId1"/>
          <a:stretch/>
        </p:blipFill>
        <p:spPr>
          <a:xfrm>
            <a:off x="838080" y="3124080"/>
            <a:ext cx="7620120" cy="19926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means “power” of hydro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 -log[H</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Picture 4" descr="07_T03"/>
          <p:cNvPicPr/>
          <p:nvPr/>
        </p:nvPicPr>
        <p:blipFill>
          <a:blip r:embed="rId1"/>
          <a:stretch/>
        </p:blipFill>
        <p:spPr>
          <a:xfrm>
            <a:off x="5181480" y="1600200"/>
            <a:ext cx="2660760" cy="45259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1" name="Picture 4" descr="07_T04"/>
          <p:cNvPicPr/>
          <p:nvPr/>
        </p:nvPicPr>
        <p:blipFill>
          <a:blip r:embed="rId1"/>
          <a:stretch/>
        </p:blipFill>
        <p:spPr>
          <a:xfrm>
            <a:off x="1523880" y="1143000"/>
            <a:ext cx="5943600" cy="5173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present in air react with water, forming acidic solutions.  Rain with a pH of less than 5.6 is considered to be acid rain.  Carbon dioxide (CO</a:t>
            </a:r>
            <a:r>
              <a:rPr b="0" lang="en-US" sz="3200" spc="-1" strike="noStrike" baseline="-25000">
                <a:solidFill>
                  <a:srgbClr val="000000"/>
                </a:solidFill>
                <a:latin typeface="Arial"/>
              </a:rPr>
              <a:t>2</a:t>
            </a:r>
            <a:r>
              <a:rPr b="0" lang="en-US" sz="3200" spc="-1" strike="noStrike">
                <a:solidFill>
                  <a:srgbClr val="000000"/>
                </a:solidFill>
                <a:latin typeface="Arial"/>
              </a:rPr>
              <a:t>), sulfur dioxide (SO</a:t>
            </a:r>
            <a:r>
              <a:rPr b="0" lang="en-US" sz="3200" spc="-1" strike="noStrike" baseline="-25000">
                <a:solidFill>
                  <a:srgbClr val="000000"/>
                </a:solidFill>
                <a:latin typeface="Arial"/>
              </a:rPr>
              <a:t>2</a:t>
            </a:r>
            <a:r>
              <a:rPr b="0" lang="en-US" sz="3200" spc="-1" strike="noStrike">
                <a:solidFill>
                  <a:srgbClr val="000000"/>
                </a:solidFill>
                <a:latin typeface="Arial"/>
              </a:rPr>
              <a:t>), nitrogen monoxide (NO), and nitrogen dioxide (NO</a:t>
            </a:r>
            <a:r>
              <a:rPr b="0" lang="en-US" sz="3200" spc="-1" strike="noStrike" baseline="-25000">
                <a:solidFill>
                  <a:srgbClr val="000000"/>
                </a:solidFill>
                <a:latin typeface="Arial"/>
              </a:rPr>
              <a:t>2</a:t>
            </a:r>
            <a:r>
              <a:rPr b="0" lang="en-US" sz="3200" spc="-1" strike="noStrike">
                <a:solidFill>
                  <a:srgbClr val="000000"/>
                </a:solidFill>
                <a:latin typeface="Arial"/>
              </a:rPr>
              <a:t>) are the major nonmetallic oxides responsible for acid rain formation.</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peracidity</a:t>
            </a:r>
            <a:r>
              <a:rPr b="0" lang="en-US" sz="3200" spc="-1" strike="noStrike">
                <a:solidFill>
                  <a:srgbClr val="000000"/>
                </a:solidFill>
                <a:latin typeface="Arial"/>
              </a:rPr>
              <a:t> is when the stomach secretes too much acid.  Antacids are often taken to neutralize excess acid and reduce the symptoms of hyperacid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ssive use of antacids can lead to an increase in the pH of blood, a condition known as </a:t>
            </a:r>
            <a:r>
              <a:rPr b="1" lang="en-US" sz="3200" spc="-1" strike="noStrike">
                <a:solidFill>
                  <a:srgbClr val="000000"/>
                </a:solidFill>
                <a:latin typeface="Arial"/>
              </a:rPr>
              <a:t>alkal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07_08"/>
          <p:cNvPicPr/>
          <p:nvPr/>
        </p:nvPicPr>
        <p:blipFill>
          <a:blip r:embed="rId1"/>
          <a:srcRect l="0" t="0" r="0" b="4513"/>
          <a:stretch/>
        </p:blipFill>
        <p:spPr>
          <a:xfrm>
            <a:off x="1447920" y="1752480"/>
            <a:ext cx="6019560" cy="39625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n litmus </a:t>
            </a:r>
            <a:r>
              <a:rPr b="0" lang="en-US" sz="3200" spc="-1" strike="noStrike">
                <a:solidFill>
                  <a:srgbClr val="333399"/>
                </a:solidFill>
                <a:latin typeface="Arial"/>
              </a:rPr>
              <a:t>b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l slipp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 with acids to form water and a salt</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graphicFrame>
        <p:nvGraphicFramePr>
          <p:cNvPr id="114" name=""/>
          <p:cNvGraphicFramePr/>
          <p:nvPr/>
        </p:nvGraphicFramePr>
        <p:xfrm>
          <a:off x="533520" y="1523880"/>
          <a:ext cx="8229600" cy="4770720"/>
        </p:xfrm>
        <a:graphic>
          <a:graphicData uri="http://schemas.openxmlformats.org/drawingml/2006/table">
            <a:tbl>
              <a:tblPr/>
              <a:tblGrid>
                <a:gridCol w="2743200"/>
                <a:gridCol w="2743200"/>
                <a:gridCol w="27432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bi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H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ing 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s</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H)</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ojel</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OH)</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 of Magnesia</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lfuric acid</a:t>
            </a:r>
            <a:r>
              <a:rPr b="0" lang="en-US" sz="3200" spc="-1" strike="noStrike">
                <a:solidFill>
                  <a:srgbClr val="000000"/>
                </a:solidFill>
                <a:latin typeface="Arial"/>
              </a:rPr>
              <a:t> is the leading chemical substance produced in the U.S.  It is used to manufacture fertilizers and industrial chemicals.  It is the acid of automotive batteries.  Production is 40 billion kg/year.</a:t>
            </a:r>
            <a:endParaRPr b="0" lang="en-US" sz="32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drochloric acid</a:t>
            </a:r>
            <a:r>
              <a:rPr b="0" lang="en-US" sz="3200" spc="-1" strike="noStrike">
                <a:solidFill>
                  <a:srgbClr val="000000"/>
                </a:solidFill>
                <a:latin typeface="Arial"/>
              </a:rPr>
              <a:t> has a number of uses.  It is used as a rust remover, it removes lime from mortar and household plumbing fixtures.  It can be purchased from hardware stores as muriatic acid. Annual U.S. production is 4 billion kg.</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ime (CaO)</a:t>
            </a:r>
            <a:r>
              <a:rPr b="0" lang="en-US" sz="3200" spc="-1" strike="noStrike">
                <a:solidFill>
                  <a:srgbClr val="000000"/>
                </a:solidFill>
                <a:latin typeface="Arial"/>
              </a:rPr>
              <a:t> is produced by heating limestone (CaCO</a:t>
            </a:r>
            <a:r>
              <a:rPr b="0" lang="en-US" sz="3200" spc="-1" strike="noStrike" baseline="-25000">
                <a:solidFill>
                  <a:srgbClr val="000000"/>
                </a:solidFill>
                <a:latin typeface="Arial"/>
              </a:rPr>
              <a:t>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CO</a:t>
            </a:r>
            <a:r>
              <a:rPr b="0" lang="en-US" sz="3200" spc="-1" strike="noStrike" baseline="-25000">
                <a:solidFill>
                  <a:srgbClr val="000000"/>
                </a:solidFill>
                <a:latin typeface="Arial"/>
              </a:rPr>
              <a:t>3</a:t>
            </a:r>
            <a:r>
              <a:rPr b="0" lang="en-US" sz="3200" spc="-1" strike="noStrike">
                <a:solidFill>
                  <a:srgbClr val="000000"/>
                </a:solidFill>
                <a:latin typeface="Arial"/>
              </a:rPr>
              <a:t>  +  heat  --&gt;</a:t>
            </a:r>
            <a:r>
              <a:rPr b="0" lang="en-US" sz="3200" spc="-1" strike="noStrike">
                <a:solidFill>
                  <a:srgbClr val="000000"/>
                </a:solidFill>
                <a:latin typeface="Arial"/>
                <a:ea typeface="Arial"/>
              </a:rPr>
              <a:t>  CaO  +  CO</a:t>
            </a:r>
            <a:r>
              <a:rPr b="0" lang="en-US" sz="3200" spc="-1" strike="noStrike" baseline="-25000">
                <a:solidFill>
                  <a:srgbClr val="000000"/>
                </a:solidFill>
                <a:latin typeface="Arial"/>
                <a:ea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Lime can be made by reacting with water to make calcium hydroxide (Ca(O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Lime is used to make mortar and cement and to sweeten soil.  Annual U.S. production is 22 billion k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odium hydroxide</a:t>
            </a:r>
            <a:r>
              <a:rPr b="0" lang="en-US" sz="3200" spc="-1" strike="noStrike">
                <a:solidFill>
                  <a:srgbClr val="000000"/>
                </a:solidFill>
                <a:latin typeface="Arial"/>
              </a:rPr>
              <a:t>, also known as lye, can be purchased for home use as oven cleaner or drain cleaners.  It is used commercially to make soap.  Annual U.S. production is 9 billion kg.</a:t>
            </a:r>
            <a:endParaRPr b="0" lang="en-US" sz="32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mmonia</a:t>
            </a:r>
            <a:r>
              <a:rPr b="0" lang="en-US" sz="3200" spc="-1" strike="noStrike">
                <a:solidFill>
                  <a:srgbClr val="000000"/>
                </a:solidFill>
                <a:latin typeface="Arial"/>
              </a:rPr>
              <a:t> is produced for use as fertilizer and in household cleaning products.  Production is about 11 billion kg/year.</a:t>
            </a:r>
            <a:endParaRPr b="0" lang="en-US" sz="3200" spc="-1" strike="noStrike">
              <a:solidFill>
                <a:srgbClr val="000000"/>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Health and Diseas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ntrated acids and bases are corrosive to tissue and are health hazards.  They can denature proteins in living cel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uman body has wonderful mechanisms for maintaining the proper pH of tissue, blood, and body fluids.</a:t>
            </a:r>
            <a:endParaRPr b="0" lang="en-US" sz="3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Picture 4" descr="07_01"/>
          <p:cNvPicPr/>
          <p:nvPr/>
        </p:nvPicPr>
        <p:blipFill>
          <a:blip r:embed="rId1"/>
          <a:srcRect l="0" t="0" r="0" b="4648"/>
          <a:stretch/>
        </p:blipFill>
        <p:spPr>
          <a:xfrm>
            <a:off x="1066680" y="1600200"/>
            <a:ext cx="6934320" cy="426708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Acid:</a:t>
            </a:r>
            <a:r>
              <a:rPr b="0" lang="en-US" sz="2400" spc="-1" strike="noStrike">
                <a:solidFill>
                  <a:srgbClr val="000000"/>
                </a:solidFill>
                <a:latin typeface="Arial"/>
              </a:rPr>
              <a:t>  a molecular substance that ionizes in aqueous solution to form hydrogen ions (H</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07_T01"/>
          <p:cNvPicPr/>
          <p:nvPr/>
        </p:nvPicPr>
        <p:blipFill>
          <a:blip r:embed="rId1"/>
          <a:srcRect l="0" t="0" r="0" b="9981"/>
          <a:stretch/>
        </p:blipFill>
        <p:spPr>
          <a:xfrm>
            <a:off x="914400" y="3048120"/>
            <a:ext cx="7315200" cy="213336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e:</a:t>
            </a:r>
            <a:r>
              <a:rPr b="0" lang="en-US" sz="2400" spc="-1" strike="noStrike">
                <a:solidFill>
                  <a:srgbClr val="000000"/>
                </a:solidFill>
                <a:latin typeface="Arial"/>
              </a:rPr>
              <a:t>  a substance that produces hydroxide ions (OH-) in aqueous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4" descr="07_T02"/>
          <p:cNvPicPr/>
          <p:nvPr/>
        </p:nvPicPr>
        <p:blipFill>
          <a:blip r:embed="rId1"/>
          <a:srcRect l="0" t="0" r="0" b="9698"/>
          <a:stretch/>
        </p:blipFill>
        <p:spPr>
          <a:xfrm>
            <a:off x="838080" y="3048120"/>
            <a:ext cx="7696440" cy="1981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utralization:  When an acid reacts with a base, the properties of each are neutralized and the products are water and a sa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id  +  Base  </a:t>
            </a:r>
            <a:r>
              <a:rPr b="0" lang="en-US" sz="3200" spc="-1" strike="noStrike">
                <a:solidFill>
                  <a:srgbClr val="000000"/>
                </a:solidFill>
                <a:latin typeface="Arial"/>
                <a:ea typeface="Arial"/>
              </a:rPr>
              <a:t>--&gt;  Water +  Salt</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imitations of the Arrhenius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ions do not exist in water solution.  Protons react with water to form hydronium ions.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rrhenius Theory does not explain the basicity of ammonia and similar comp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only applies to reactions in aqueous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r</a:t>
            </a:r>
            <a:r>
              <a:rPr b="1" lang="en-US" sz="3200" spc="-1" strike="noStrike">
                <a:solidFill>
                  <a:srgbClr val="000000"/>
                </a:solidFill>
                <a:latin typeface="Arial"/>
                <a:ea typeface="Arial"/>
              </a:rPr>
              <a:t>ø</a:t>
            </a:r>
            <a:r>
              <a:rPr b="1" lang="en-US" sz="3200" spc="-1" strike="noStrike">
                <a:solidFill>
                  <a:srgbClr val="000000"/>
                </a:solidFill>
                <a:latin typeface="Arial"/>
              </a:rPr>
              <a:t>nsted-Lowry The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a:t>
            </a:r>
            <a:r>
              <a:rPr b="0" lang="en-US" sz="3200" spc="-1" strike="noStrike">
                <a:solidFill>
                  <a:srgbClr val="000000"/>
                </a:solidFill>
                <a:latin typeface="Arial"/>
              </a:rPr>
              <a:t>  proton don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se:</a:t>
            </a:r>
            <a:r>
              <a:rPr b="0" lang="en-US" sz="3200" spc="-1" strike="noStrike">
                <a:solidFill>
                  <a:srgbClr val="000000"/>
                </a:solidFill>
                <a:latin typeface="Arial"/>
              </a:rPr>
              <a:t>  proton accept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OH</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are acid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SO</a:t>
            </a:r>
            <a:r>
              <a:rPr b="0" lang="en-US" sz="2800" spc="-1" strike="noStrike" baseline="-25000">
                <a:solidFill>
                  <a:srgbClr val="000000"/>
                </a:solidFill>
                <a:latin typeface="Arial"/>
                <a:ea typeface="Arial"/>
              </a:rPr>
              <a:t>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1:23:38Z</dcterms:created>
  <dc:creator> </dc:creator>
  <dc:description/>
  <dc:language>en-US</dc:language>
  <cp:lastModifiedBy>LEGION</cp:lastModifiedBy>
  <dcterms:modified xsi:type="dcterms:W3CDTF">2017-01-26T09:13:01Z</dcterms:modified>
  <cp:revision>40</cp:revision>
  <dc:subject/>
  <dc:title>Chemistry for Changing Times 11th Edition Hill and Kolb</dc:title>
</cp:coreProperties>
</file>